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F11-4B5C-4BA5-B6C8-16D0F0A1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3F3-7749-4DDF-B316-49E2BEAF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7AA-5FED-4551-8C8F-A1250814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85F-2FFE-4E0D-A9DC-39A8A4EE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738-B5FC-4B2B-A0AE-3534618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DA4-5D85-47DC-98CB-6576C01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3C6-DE72-4C84-8448-F93A23F5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527-3155-49A0-B8F4-DB5F5FB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86C-4E79-4ACA-B79E-98081F68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337-A57F-4CE9-AAC2-433EF7F6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C7D-1FBE-49AB-8604-8DCC9033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394-71EA-430D-9B7F-8CA763C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396E-8E77-43AC-8684-97FFE499E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and Automation Tool for STT-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rag Nig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E-65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228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 in Progress 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8Kb memory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-power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s Break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Cel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Bit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 Sense amp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iming block, Write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4x4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skill script to Generate the sch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he complete memory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T-RAM bit cel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agnetic Tunnel Junction (MT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ccess 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43000" y="2666880"/>
            <a:ext cx="4667400" cy="1391760"/>
            <a:chOff x="1143000" y="2666880"/>
            <a:chExt cx="4667400" cy="1391760"/>
          </a:xfrm>
        </p:grpSpPr>
        <p:grpSp>
          <p:nvGrpSpPr>
            <p:cNvPr id="48" name=""/>
            <p:cNvGrpSpPr/>
            <p:nvPr/>
          </p:nvGrpSpPr>
          <p:grpSpPr>
            <a:xfrm>
              <a:off x="1143000" y="2666880"/>
              <a:ext cx="2196720" cy="1391760"/>
              <a:chOff x="1143000" y="2666880"/>
              <a:chExt cx="2196720" cy="1391760"/>
            </a:xfrm>
          </p:grpSpPr>
          <p:sp>
            <p:nvSpPr>
              <p:cNvPr id="49" name=""/>
              <p:cNvSpPr/>
              <p:nvPr/>
            </p:nvSpPr>
            <p:spPr>
              <a:xfrm>
                <a:off x="1143000" y="266688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43000" y="320796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351720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598760" y="296064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98760" y="367488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598760" y="39384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4880" y="325440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28920" y="364464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93960" y="354780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371628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6840" y="28191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20880" y="41911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1: Structure of MT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3048120"/>
            <a:ext cx="35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T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320" y="1828800"/>
            <a:ext cx="8316720" cy="4254480"/>
            <a:chOff x="76320" y="1828800"/>
            <a:chExt cx="8316720" cy="4254480"/>
          </a:xfrm>
        </p:grpSpPr>
        <p:graphicFrame>
          <p:nvGraphicFramePr>
            <p:cNvPr id="65" name=""/>
            <p:cNvGraphicFramePr/>
            <p:nvPr/>
          </p:nvGraphicFramePr>
          <p:xfrm>
            <a:off x="76320" y="198108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98108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152280" y="350532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85800" y="396252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280" y="541008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5791320" y="182880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182880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5715000" y="358128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172200" y="403812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57150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320040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6172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bit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09480" y="1447920"/>
          <a:ext cx="2540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2540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04920" y="5791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33920" y="1523880"/>
            <a:ext cx="4647960" cy="4727160"/>
            <a:chOff x="3733920" y="1523880"/>
            <a:chExt cx="4647960" cy="4727160"/>
          </a:xfrm>
        </p:grpSpPr>
        <p:graphicFrame>
          <p:nvGraphicFramePr>
            <p:cNvPr id="81" name=""/>
            <p:cNvGraphicFramePr/>
            <p:nvPr/>
          </p:nvGraphicFramePr>
          <p:xfrm>
            <a:off x="3733920" y="1523880"/>
            <a:ext cx="3962160" cy="406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1523880"/>
                      <a:ext cx="396216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4343400" y="5791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0600" y="2057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257800" y="182880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1680" y="213372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1911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791320" y="3428640"/>
              <a:ext cx="152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62120" y="241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-Cel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se Amplifi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838080"/>
          <a:ext cx="8381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381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2860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: S. Natarajan et.al “ Searching for the Dream Embedded Memory”, ISSC Magazine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r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90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1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 =0 SL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“0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=1 S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14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T-RAM array auto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200400"/>
            <a:ext cx="8610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satya’s skill script to use leaf cells designed for STT-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cripts for array, write driver and sense-amp. gen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script to generate the complete schema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 x 8 Memory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1676520"/>
            <a:ext cx="6058080" cy="3390840"/>
            <a:chOff x="914400" y="1676520"/>
            <a:chExt cx="6058080" cy="3390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14400" y="1676520"/>
              <a:ext cx="60580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847880" y="4006800"/>
              <a:ext cx="15555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iming B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78400" y="2017800"/>
              <a:ext cx="13237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x8 Arr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56000" y="3005280"/>
              <a:ext cx="12304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rite Dr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09920" y="4005360"/>
              <a:ext cx="17971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nse Amplif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90720" y="990720"/>
            <a:ext cx="6933960" cy="4724280"/>
            <a:chOff x="990720" y="990720"/>
            <a:chExt cx="6933960" cy="4724280"/>
          </a:xfrm>
        </p:grpSpPr>
        <p:graphicFrame>
          <p:nvGraphicFramePr>
            <p:cNvPr id="106" name=""/>
            <p:cNvGraphicFramePr/>
            <p:nvPr/>
          </p:nvGraphicFramePr>
          <p:xfrm>
            <a:off x="990720" y="990720"/>
            <a:ext cx="6858000" cy="472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990720"/>
                      <a:ext cx="6858000" cy="47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16002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895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0280" y="28954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&lt;0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81080" y="274320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040" y="320040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934320" y="320040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2240" y="15876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81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81680" y="1523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ad “0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9480" y="15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x8 Memory Array: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0:48:27Z</dcterms:created>
  <dc:creator>anuragn</dc:creator>
  <dc:description/>
  <dc:language>en-US</dc:language>
  <cp:lastModifiedBy>anurag</cp:lastModifiedBy>
  <dcterms:modified xsi:type="dcterms:W3CDTF">2010-04-23T18:10:18Z</dcterms:modified>
  <cp:revision>23</cp:revision>
  <dc:subject/>
  <dc:title>Design and Automation Tool for STT-RAM</dc:title>
</cp:coreProperties>
</file>